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581-8CC4-48FF-9324-F92723C9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5C4-11A8-4F83-AEDA-10156902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656-01D2-4DB7-9968-9F05C889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B36-755C-47ED-8009-76945175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ED6-C456-45D7-8CEA-4B69CB3A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3F1-B5F4-4546-9665-1FAB4FF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07F-F438-4F47-864C-C4638E85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24D-AEA4-4D79-980C-17DAA832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ED3D-C1B7-44F6-98D3-391896C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C0B-6827-4081-8E35-F92A863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515-17EA-4BE7-AAB1-B7EE36F4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075-791F-48D7-A103-AA94EC0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7613-016D-4749-89E7-14532046B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43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09480" y="2057400"/>
            <a:ext cx="4114800" cy="1600200"/>
            <a:chOff x="609480" y="2057400"/>
            <a:chExt cx="4114800" cy="1600200"/>
          </a:xfrm>
        </p:grpSpPr>
        <p:sp>
          <p:nvSpPr>
            <p:cNvPr id="46" name=""/>
            <p:cNvSpPr/>
            <p:nvPr/>
          </p:nvSpPr>
          <p:spPr>
            <a:xfrm>
              <a:off x="609480" y="205740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564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33560" y="304812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76360" y="3352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09480" y="4724280"/>
            <a:ext cx="7925040" cy="1907640"/>
            <a:chOff x="609480" y="4724280"/>
            <a:chExt cx="7925040" cy="1907640"/>
          </a:xfrm>
        </p:grpSpPr>
        <p:sp>
          <p:nvSpPr>
            <p:cNvPr id="51" name=""/>
            <p:cNvSpPr/>
            <p:nvPr/>
          </p:nvSpPr>
          <p:spPr>
            <a:xfrm>
              <a:off x="3733920" y="525780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472428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33920" y="472428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60958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61722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61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048120"/>
            <a:ext cx="9903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00600" y="1905120"/>
            <a:ext cx="1866960" cy="2819160"/>
            <a:chOff x="4800600" y="1905120"/>
            <a:chExt cx="1866960" cy="2819160"/>
          </a:xfrm>
        </p:grpSpPr>
        <p:sp>
          <p:nvSpPr>
            <p:cNvPr id="70" name=""/>
            <p:cNvSpPr/>
            <p:nvPr/>
          </p:nvSpPr>
          <p:spPr>
            <a:xfrm>
              <a:off x="4800600" y="1905120"/>
              <a:ext cx="83808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3160" y="3657600"/>
              <a:ext cx="9144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76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Panel &amp; PCO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5257800"/>
            <a:ext cx="480060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724280"/>
            <a:ext cx="266724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724280"/>
            <a:ext cx="480060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3657600"/>
            <a:ext cx="5029200" cy="1066680"/>
            <a:chOff x="609480" y="3657600"/>
            <a:chExt cx="5029200" cy="1066680"/>
          </a:xfrm>
        </p:grpSpPr>
        <p:sp>
          <p:nvSpPr>
            <p:cNvPr id="84" name=""/>
            <p:cNvSpPr/>
            <p:nvPr/>
          </p:nvSpPr>
          <p:spPr>
            <a:xfrm>
              <a:off x="3733560" y="365760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480" y="365760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09480" y="205740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3048120"/>
            <a:ext cx="990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60948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6095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905120"/>
            <a:ext cx="53316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3160" y="365760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365760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3657600"/>
            <a:ext cx="7621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48720" y="3505320"/>
            <a:ext cx="7617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81560" y="1905120"/>
            <a:ext cx="685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705720" y="1905120"/>
            <a:ext cx="2006640" cy="2514600"/>
            <a:chOff x="6705720" y="1905120"/>
            <a:chExt cx="2006640" cy="2514600"/>
          </a:xfrm>
        </p:grpSpPr>
        <p:sp>
          <p:nvSpPr>
            <p:cNvPr id="99" name=""/>
            <p:cNvSpPr/>
            <p:nvPr/>
          </p:nvSpPr>
          <p:spPr>
            <a:xfrm>
              <a:off x="7950240" y="335268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05720" y="190512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0592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3:43Z</dcterms:modified>
  <cp:revision>51</cp:revision>
  <dc:subject/>
  <dc:title>xPanel &amp; PCO2</dc:title>
</cp:coreProperties>
</file>